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EB9-E075-4065-B5BE-3A3AE9BF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D0F-5A6C-4322-B0AD-29618842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046-6010-481B-9C08-B9C7A84A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542-3204-4529-8FB2-5FD29396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70C-04B0-4776-B1C4-159149D8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8730-BCED-44F7-9F25-D4E994DA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31E-49E6-41B6-A28A-1DCCD625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191-377A-44C5-B4C9-CDE94104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8AFE-2401-41DA-89E7-AD9890CB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344-6FC2-4872-84DA-6E56E702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BA2-27FA-4AA0-B6D3-06EB842D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ADA-C7B0-4EAA-A0FE-FE138A93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3624-8B06-4950-9ED9-9A14AF688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404640"/>
            <a:ext cx="6686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p 10 tourist destinations in LEDC'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34136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1. China                                                                          27 million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844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2. Mexico                                                                        19.2 million visitors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2513160"/>
            <a:ext cx="78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249228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234936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3. Thailand                                                                      19.2 million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2997360"/>
            <a:ext cx="77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78136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4. Malaysia                                                                      7.9 million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321300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. South Africa                                                                6.2 million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716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6. Singapore                                                                    6.2 million visi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22100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7. Brazil                                                                          5.1 million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4653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515772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9. Indonesia                                                                  4.7 million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47242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8. Tunisia                                                                     4.9 million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573408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10. South Korea                                                            4.6 million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09:41:48Z</dcterms:created>
  <dc:creator>ISS</dc:creator>
  <dc:description/>
  <dc:language>en-US</dc:language>
  <cp:lastModifiedBy>Rebecca Bairstow</cp:lastModifiedBy>
  <dcterms:modified xsi:type="dcterms:W3CDTF">2006-04-30T14:49:08Z</dcterms:modified>
  <cp:revision>3</cp:revision>
  <dc:subject/>
  <dc:title>Slide 1</dc:title>
</cp:coreProperties>
</file>